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C1B-7CB0-49DF-A8CC-376F8610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2B8-4EB6-4F2E-8F59-3294A2D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53D-0184-4B3B-8D38-2CF6488A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99C-55DF-4480-9461-0D59CDBD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1A1-ED89-487A-838F-D45FB229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A369-8136-4E2D-A916-F8D17EC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81C4-3C94-48B7-A4E4-7E3E846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7299-8C94-46DC-9FF6-3A39186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29D-AD60-477D-84FB-92791FA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664-B84B-4CBD-BE52-B1DC309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C11B-E511-4163-9E6F-C77553E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9B8-FEA6-4FFD-B89F-C821C43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561-2EA1-4AE4-8C8A-DF17159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BFB-10A0-4F15-AF84-792B0EE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824-B21E-4F9B-8769-CBB63AC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A75-DF84-4CE6-A4FB-1B10EFEC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761-F6A6-4CDF-87CD-0EA0A5F4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F45-01ED-4898-B989-1DA3383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4D8-7617-4098-9223-3E57E5A0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ED8-5D25-4526-B783-F083ACB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835-3FD7-450C-9AA0-BED582E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64E-BC56-4FA9-85F0-08E0D62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1DF-A602-44D7-8EAC-7AAAD22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AA4-7876-4FE9-8D25-E9428789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8E8-ABD9-4680-B1B9-CD4661D4EE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CBF-CC77-44CB-BC5D-724D9D163C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-S54bbX6e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ing the Classroom Environmen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elpful Hi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le’s” is a jewelry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ky’s is a tuxedo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Lehman” is a car deal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the che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hecks lab sample"/>
          <p:cNvPicPr/>
          <p:nvPr/>
        </p:nvPicPr>
        <p:blipFill>
          <a:blip r:embed="rId1"/>
          <a:srcRect l="8331" t="8067" r="20696" b="72611"/>
          <a:stretch/>
        </p:blipFill>
        <p:spPr>
          <a:xfrm>
            <a:off x="2743200" y="4038480"/>
            <a:ext cx="4952880" cy="174312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2209680" y="41148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6857640" y="35812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828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2438280" y="56386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 flipV="1">
            <a:off x="7009920" y="51051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23880" y="38098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64832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828800" y="649116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92468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78168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mportan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environment determines whether or not learning occur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e learning environments involve student engagements as well as stru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stablishing the Classroom Enviro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tentional in your set up of the physical layout of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ut and structure transition tim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lear and well established classroom management philosophy and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m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/collaboration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eachers with effective classroom management skills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ly arrange the classroom in a way that minimizes distractions and facilitates teacher-student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climate in which students feel they belong and are intrinsically motivated to le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reasonable limits fo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activities that encourage on-task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ally monitor what students are 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ify instructional strategies when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c0039"/>
                </a:solidFill>
                <a:latin typeface="Times New Roman"/>
              </a:rPr>
              <a:t>Jeanne Ellis Ormrod</a:t>
            </a:r>
            <a:br>
              <a:rPr sz="1000"/>
            </a:br>
            <a:r>
              <a:rPr b="0" i="1" lang="en-US" sz="1000" spc="-1" strike="noStrike">
                <a:solidFill>
                  <a:srgbClr val="8c0039"/>
                </a:solidFill>
                <a:latin typeface="Times New Roman"/>
              </a:rPr>
              <a:t>Educational Psychology: Developing Learners, six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ps for Classroom Manag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a plan ahea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clear expectations –  NO HIDDEN RU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you are the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care of your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 students like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at the ABCs of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o know your k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well plan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 men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guidelines you believ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a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why you are there in the first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ARNING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lassroom management does not always mean good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youtube.com/watch?v=C-S54bbX6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hecks Lab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students to the nature of science and some of its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given a set of checks written by their long lost grandfather. They recreate his life’s story based on the che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ced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3 checks from your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se checks, write a hypothesis as to what Great Grandpa John was doing in his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3 more checks from your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se checks, revise your initial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process until you are out of che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overall life story for Great Grandpa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08:04Z</dcterms:created>
  <dc:creator>elpalme</dc:creator>
  <dc:description/>
  <dc:language>en-US</dc:language>
  <cp:lastModifiedBy>elpalme</cp:lastModifiedBy>
  <dcterms:modified xsi:type="dcterms:W3CDTF">2011-01-07T19:18:39Z</dcterms:modified>
  <cp:revision>8</cp:revision>
  <dc:subject/>
  <dc:title>Setting the Classroom Environment</dc:title>
</cp:coreProperties>
</file>